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C35BC-63BB-42B8-A9D0-9F60226C9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45711-0235-4BDA-A118-4E87462E8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3427E-EC2D-4D16-9C08-44A987EDA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E8C22-A7BF-4116-A076-27F2C2A4C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F84128-5AC0-431A-BA14-4CC8FBDB80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567F6-535F-43B6-BE16-52EAAEC1E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F4DDD-E238-4B81-B7E6-DFBE4D991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6354C-EF7A-4757-9A94-572025B33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66968-1877-417A-90CC-BD0CE5E84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DCE2D-D440-4ED0-9D57-CBA590F0D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C95AA-0259-4728-BA15-1A611E940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30A2B-3C79-4034-8566-432765B03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55690-6FC5-48FB-A7A6-24114797E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0920B-9A17-4F9E-B694-FEBEE51DD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A0D26-0035-4A1B-A327-EB435A4B4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49F9D5-AA61-4BCC-9329-5D004B2879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AE3FC-81B3-4A53-97BF-2398EB221E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9A603-259E-46BB-9F0F-0BFC1B5B0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076C4-47DA-412F-A756-8F4ECD68C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413A3-50B3-4583-85E4-4890BF29A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DFA92-AF9D-449F-8B5C-2C540920F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F7C6D-85D9-443E-959F-085518C1B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4E07B-D227-4F42-A160-5876137F5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C8A2F-4FD5-462E-8E94-C4CAAE304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2A0C-626B-4EFC-B6DA-B5D1A0BFC61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875F-24C9-4F5D-A440-F1E9528E3F4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قوائم </a:t>
            </a:r>
            <a:r>
              <a:rPr b="0" lang="hi-IN" sz="4400" spc="-1" strike="noStrike">
                <a:solidFill>
                  <a:srgbClr val="ffffff"/>
                </a:solidFill>
                <a:latin typeface="Arial Unicode MS"/>
                <a:cs typeface="Arial Unicode MS"/>
              </a:rPr>
              <a:t>المالية</a:t>
            </a:r>
            <a:endParaRPr b="0" lang="en-US" sz="4400" spc="-1" strike="noStrike">
              <a:solidFill>
                <a:srgbClr val="ffff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بعد تعريف العمليات وتسجيلها وتلخيصها يتم اعداد القوائم المالية من البيانات </a:t>
            </a:r>
            <a:r>
              <a:rPr b="0" lang="hi-IN" sz="2800" spc="-1" strike="noStrike">
                <a:solidFill>
                  <a:srgbClr val="ffffff"/>
                </a:solidFill>
                <a:latin typeface="Arial Unicode MS"/>
                <a:cs typeface="Arial Unicode MS"/>
              </a:rPr>
              <a:t>المحاسبية</a:t>
            </a: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دخل</a:t>
            </a:r>
            <a:r>
              <a:rPr b="0" lang="en-US"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ارباح المحتجزة</a:t>
            </a:r>
            <a:r>
              <a:rPr b="0" lang="en-US"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مركز المالي</a:t>
            </a:r>
            <a:r>
              <a:rPr b="0" lang="en-US"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تدفقات النقدية</a:t>
            </a:r>
            <a:r>
              <a:rPr b="0" lang="en-US"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ECF9E1C-E3E4-4CD6-9427-C3BE2FF2C0C4}" type="slidenum">
              <a:t>1</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 calcmode="lin" valueType="num">
                                      <p:cBhvr additive="repl">
                                        <p:cTn id="7"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6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62">
                                            <p:txEl>
                                              <p:pRg st="1" end="1"/>
                                            </p:txEl>
                                          </p:spTgt>
                                        </p:tgtEl>
                                        <p:attrNameLst>
                                          <p:attrName>style.visibility</p:attrName>
                                        </p:attrNameLst>
                                      </p:cBhvr>
                                      <p:to>
                                        <p:strVal val="visible"/>
                                      </p:to>
                                    </p:set>
                                    <p:anim calcmode="lin" valueType="num">
                                      <p:cBhvr additive="repl">
                                        <p:cTn id="14" dur="1000" fill="hold"/>
                                        <p:tgtEl>
                                          <p:spTgt spid="162">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62">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6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anim calcmode="lin" valueType="num">
                                      <p:cBhvr additive="repl">
                                        <p:cTn id="21" dur="1000" fill="hold"/>
                                        <p:tgtEl>
                                          <p:spTgt spid="162">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62">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6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62">
                                            <p:txEl>
                                              <p:pRg st="3" end="3"/>
                                            </p:txEl>
                                          </p:spTgt>
                                        </p:tgtEl>
                                        <p:attrNameLst>
                                          <p:attrName>style.visibility</p:attrName>
                                        </p:attrNameLst>
                                      </p:cBhvr>
                                      <p:to>
                                        <p:strVal val="visible"/>
                                      </p:to>
                                    </p:set>
                                    <p:anim calcmode="lin" valueType="num">
                                      <p:cBhvr additive="repl">
                                        <p:cTn id="28" dur="1000" fill="hold"/>
                                        <p:tgtEl>
                                          <p:spTgt spid="162">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62">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62">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162">
                                            <p:txEl>
                                              <p:pRg st="4" end="4"/>
                                            </p:txEl>
                                          </p:spTgt>
                                        </p:tgtEl>
                                        <p:attrNameLst>
                                          <p:attrName>style.visibility</p:attrName>
                                        </p:attrNameLst>
                                      </p:cBhvr>
                                      <p:to>
                                        <p:strVal val="visible"/>
                                      </p:to>
                                    </p:set>
                                    <p:anim calcmode="lin" valueType="num">
                                      <p:cBhvr additive="repl">
                                        <p:cTn id="35" dur="1000" fill="hold"/>
                                        <p:tgtEl>
                                          <p:spTgt spid="162">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62">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0E90725-3174-418E-B6B0-64450C89EEFA}"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81" name=""/>
          <p:cNvGraphicFramePr/>
          <p:nvPr/>
        </p:nvGraphicFramePr>
        <p:xfrm>
          <a:off x="0" y="0"/>
          <a:ext cx="9036000" cy="6897600"/>
        </p:xfrm>
        <a:graphic>
          <a:graphicData uri="http://schemas.openxmlformats.org/drawingml/2006/table">
            <a:tbl>
              <a:tblPr/>
              <a:tblGrid>
                <a:gridCol w="3498840"/>
                <a:gridCol w="4352760"/>
                <a:gridCol w="1184400"/>
              </a:tblGrid>
              <a:tr h="39888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دفقات النقدية الصادر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تدفقات النقدية الوار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نشط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819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فائض الموزع</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مدفوعات من أصل الدين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إعادة شراء أسهم المنشأ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نقدية من القروض قصيرة و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المساهمين أو حملة السندات مقابل إصدار أسهم أو 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مو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1356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قروض الممنوحة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استثمارات مالية 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أصول ثابت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رسوم الجمركية على الأصول الثابتة المستوردة من الخارج</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أصل الدين (القرض)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استثمارات مالية طويلة الأجل </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أصول ثابت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980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اقتناء عناصر الإنتاج أو المخزون السلعي</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عمالة من أجور وتأمينات ومزايا عيني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موردين</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ضرائب والرسوم المسددة للدول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فائدة المدفوعة على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الأخرى كالتبرعات أو التعويضات بسبب القضايا أو المبالغ المرتدة للعملاء</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بيع السلع أو الخدمات</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عملاء المبيعات الآج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تحصلات الجارية الأخرى مثال تعويضات أو تأمين أو ديون معدومة محص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عائد الاستثمارات المالية التي يمتلكها المشروع</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عائد (الفائدة) المحصلة من القروض الممنوحة للغير</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شغ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D6299943-0DDD-498D-A278-256A78121FE5}"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A60B487-098F-4211-A82C-157388DDA1F7}"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53471CD-333D-45C2-9E70-C7EE19C89F8D}"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C1360FC-56A3-4557-9A1A-71A74D6586C1}"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طريقة المباشرة :</a:t>
            </a:r>
            <a:endParaRPr b="0" lang="en-US" sz="2800" spc="-1" strike="noStrike">
              <a:solidFill>
                <a:srgbClr val="ffffff"/>
              </a:solidFill>
              <a:latin typeface="Arial"/>
            </a:endParaRPr>
          </a:p>
          <a:p>
            <a:pPr marL="322200" indent="-3222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داخل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a:t>
            </a:r>
            <a:r>
              <a:rPr b="0" lang="ar-SA" sz="2800" spc="-1" strike="noStrike">
                <a:solidFill>
                  <a:srgbClr val="ffffff"/>
                </a:solidFill>
                <a:latin typeface="Arial"/>
              </a:rPr>
              <a:t>لإيرادات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أصول + ا</a:t>
            </a:r>
            <a:r>
              <a:rPr b="0" lang="ar-SA" sz="2800" spc="-1" strike="noStrike">
                <a:solidFill>
                  <a:srgbClr val="ffffff"/>
                </a:solidFill>
                <a:latin typeface="Arial"/>
                <a:cs typeface="Times New Roman (Arabic)"/>
              </a:rPr>
              <a:t>لزيادة </a:t>
            </a:r>
            <a:r>
              <a:rPr b="0" lang="ar-SA" sz="2800" spc="-1" strike="noStrike">
                <a:solidFill>
                  <a:srgbClr val="ffffff"/>
                </a:solidFill>
                <a:latin typeface="Arial"/>
              </a:rPr>
              <a:t>في الخصوم</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خارج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a:t>
            </a:r>
            <a:r>
              <a:rPr b="0" lang="ar-SA" sz="2800" spc="-1" strike="noStrike">
                <a:solidFill>
                  <a:srgbClr val="ffffff"/>
                </a:solidFill>
                <a:latin typeface="Arial"/>
              </a:rPr>
              <a:t>المصروفات </a:t>
            </a:r>
            <a:r>
              <a:rPr b="0" lang="en-US" sz="2800" spc="-1" strike="noStrike">
                <a:solidFill>
                  <a:srgbClr val="ffffff"/>
                </a:solidFill>
                <a:latin typeface="Arial"/>
              </a:rPr>
              <a:t>–</a:t>
            </a:r>
            <a:r>
              <a:rPr b="0" lang="ar-SA" sz="2800" spc="-1" strike="noStrike">
                <a:solidFill>
                  <a:srgbClr val="ffffff"/>
                </a:solidFill>
                <a:latin typeface="Arial"/>
              </a:rPr>
              <a:t> الاستهلاكات وما في حكمهما + </a:t>
            </a:r>
            <a:r>
              <a:rPr b="0" lang="ar-SA" sz="2800" spc="-1" strike="noStrike">
                <a:solidFill>
                  <a:srgbClr val="ffffff"/>
                </a:solidFill>
                <a:latin typeface="Arial"/>
                <a:cs typeface="Times New Roman (Arabic)"/>
              </a:rPr>
              <a:t>الزيادة</a:t>
            </a:r>
            <a:r>
              <a:rPr b="0" lang="ar-SA" sz="2800" spc="-1" strike="noStrike">
                <a:solidFill>
                  <a:srgbClr val="ffffff"/>
                </a:solidFill>
                <a:latin typeface="Arial"/>
              </a:rPr>
              <a:t> في الأصول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خصو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AAA1325-4E62-4924-9BA0-BA58C4AE1280}"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طريقة غير المباشرة / أو طريقة التسوية:</a:t>
            </a:r>
            <a:endParaRPr b="0" lang="en-US" sz="2800" spc="-1" strike="noStrike">
              <a:solidFill>
                <a:srgbClr val="ffffff"/>
              </a:solidFill>
              <a:latin typeface="Arial"/>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15360" indent="-31536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hi-IN" sz="3200" spc="-1" strike="noStrike">
                <a:solidFill>
                  <a:srgbClr val="ffffff"/>
                </a:solidFill>
                <a:latin typeface="Arial"/>
              </a:rPr>
              <a:t>صافى الدخل – التغير فى الأصول + التغير فى الخصوم + الاهلاكات</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66BA2A6-A487-41CC-95C2-3BC43B77884F}" type="slidenum">
              <a:t>16</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164" name="PlaceHolder 2"/>
          <p:cNvSpPr>
            <a:spLocks noGrp="1"/>
          </p:cNvSpPr>
          <p:nvPr>
            <p:ph/>
          </p:nvPr>
        </p:nvSpPr>
        <p:spPr>
          <a:xfrm>
            <a:off x="685800" y="2133720"/>
            <a:ext cx="7772400" cy="4114800"/>
          </a:xfrm>
          <a:prstGeom prst="rect">
            <a:avLst/>
          </a:prstGeom>
          <a:noFill/>
          <a:ln w="38160">
            <a:solidFill>
              <a:srgbClr val="ffffff"/>
            </a:solidFill>
            <a:miter/>
          </a:ln>
        </p:spPr>
        <p:txBody>
          <a:bodyPr lIns="90000" rIns="90000" tIns="46800" bIns="46800"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C25B678-68B7-4D37-BB76-100B71A4CFD7}" type="slidenum">
              <a:t>2</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just"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لب </a:t>
            </a:r>
            <a:r>
              <a:rPr b="0" lang="hi-IN" sz="2800" spc="-1" strike="noStrike">
                <a:solidFill>
                  <a:srgbClr val="ffffff"/>
                </a:solidFill>
                <a:latin typeface="Arial"/>
                <a:cs typeface="Times New Roman (Arabic)"/>
              </a:rPr>
              <a:t>معايير المحاسبة المالية فى معظم الدول ومنها معايير المحاسبة المصرية و</a:t>
            </a:r>
            <a:r>
              <a:rPr b="0" lang="hi-IN" sz="2800" spc="-1" strike="noStrike">
                <a:solidFill>
                  <a:srgbClr val="ffffff"/>
                </a:solidFill>
                <a:latin typeface="Arial"/>
              </a:rPr>
              <a:t>معيار العرض والإفصاح السعودي من كل منشأة إعداد قائمة التدفقات النقدية لكل مدة تعد عنها قوائم مالية ، ويجب أن تبين هذه القائمة </a:t>
            </a:r>
            <a:r>
              <a:rPr b="0" lang="hi-IN" sz="28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a:t>
            </a:r>
            <a:r>
              <a:rPr b="0" lang="hi-IN" sz="2800" spc="-1" strike="noStrike">
                <a:solidFill>
                  <a:srgbClr val="ffff00"/>
                </a:solidFill>
                <a:latin typeface="Arial"/>
                <a:cs typeface="Times New Roman (Arabic)"/>
              </a:rPr>
              <a:t>فترة </a:t>
            </a:r>
            <a:r>
              <a:rPr b="0" lang="hi-IN" sz="2800" spc="-1" strike="noStrike">
                <a:solidFill>
                  <a:srgbClr val="ffff00"/>
                </a:solidFill>
                <a:latin typeface="Arial"/>
              </a:rPr>
              <a:t>المحاسبية</a:t>
            </a:r>
            <a:r>
              <a:rPr b="0" lang="en-US" sz="28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A5FC874-E9DD-4A21-A5CA-A9E94DEEBAAE}" type="slidenum">
              <a:t>3</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هداف قائمة التدفقات النقدية :</a:t>
            </a:r>
            <a:endParaRPr b="0" lang="en-US" sz="4000" spc="-1" strike="noStrike">
              <a:solidFill>
                <a:srgbClr val="ffffff"/>
              </a:solidFill>
              <a:latin typeface="Arial"/>
            </a:endParaRPr>
          </a:p>
        </p:txBody>
      </p:sp>
      <p:sp>
        <p:nvSpPr>
          <p:cNvPr id="16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قائمة التدفقات النقدية تساعد مستخدمي القوائم المالية في كثير من الأمور مثل معرف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تحقيق فائض مالي في الفترات المستقبل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الوفاء بالتزاماتها وسداد توزيعات الأسهم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حاجة المنشأة إلى التمويل الخارجي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ختلاف مبلغ صافي الدخل عن صافي التدفق النقدي الخاص بنشاط التشغيل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الجوانب النقدية وغير النقدية لعمليات الاستثمار والتمويل للمنشأة خلال الفترة المحاسب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لتغير في رصيد النقدية أول وآخر الفترة المحاسبية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F8F3873-595F-469D-883C-F085D638399F}"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4D11DC3-F4F5-44CD-A008-F1BC6E4844D9}"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أ  -</a:t>
            </a:r>
            <a:r>
              <a:rPr b="1" lang="en-US" sz="2800" spc="-1" strike="noStrike">
                <a:solidFill>
                  <a:srgbClr val="ffffff"/>
                </a:solidFill>
                <a:latin typeface="Arial"/>
              </a:rPr>
              <a:t>	</a:t>
            </a:r>
            <a:r>
              <a:rPr b="1" lang="hi-IN"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4E28347-3867-484C-96C3-F6F9B115A6DA}"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a:t>
            </a:r>
            <a:r>
              <a:rPr b="1" lang="en-US" sz="4000" spc="-1" strike="noStrike">
                <a:solidFill>
                  <a:srgbClr val="ffffff"/>
                </a:solidFill>
                <a:latin typeface="Arial"/>
              </a:rPr>
              <a:t> -</a:t>
            </a:r>
            <a:r>
              <a:rPr b="1" lang="en-US" sz="4000" spc="-1" strike="noStrike">
                <a:solidFill>
                  <a:srgbClr val="ffffff"/>
                </a:solidFill>
                <a:latin typeface="Arial"/>
              </a:rPr>
              <a:t>	</a:t>
            </a:r>
            <a:r>
              <a:rPr b="1" lang="hi-IN"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EFF84B5-C032-4515-A65D-5F52F929AC22}"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15A0D41-B992-499C-B9E9-A86A8475D6DC}"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a:t>
            </a:r>
            <a:r>
              <a:rPr b="1" lang="en-US" sz="4400" spc="-1" strike="noStrike">
                <a:solidFill>
                  <a:srgbClr val="ffffff"/>
                </a:solidFill>
                <a:latin typeface="Arial"/>
              </a:rPr>
              <a:t> -</a:t>
            </a:r>
            <a:r>
              <a:rPr b="1" lang="en-US" sz="4400" spc="-1" strike="noStrike">
                <a:solidFill>
                  <a:srgbClr val="ffffff"/>
                </a:solidFill>
                <a:latin typeface="Arial"/>
              </a:rPr>
              <a:t>	</a:t>
            </a:r>
            <a:r>
              <a:rPr b="1" lang="hi-IN"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9BB869B-BCEB-4493-AD53-DBED46C9D812}"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Salehr</cp:lastModifiedBy>
  <dcterms:modified xsi:type="dcterms:W3CDTF">2005-04-19T11:16:08Z</dcterms:modified>
  <cp:revision>17</cp:revision>
  <dc:subject/>
  <dc:title>القوائم المالية </dc:title>
</cp:coreProperties>
</file>